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72A1-F4B9-40FF-8F8F-5968F4DE4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63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2119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3035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844C-805F-4872-A64A-BB64666BD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63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2119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2119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3035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3035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BDE0-3634-477D-990B-94FD633C8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63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2119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2119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2119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3035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3035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3035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2192-8404-4896-AF70-32361AE8D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42371-BFBE-4C8E-860C-5CE5B9EFB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63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2119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F84F7-19F0-4689-831B-6F4FD8D11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63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71600" y="2119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575C1-AFF4-45EB-BBC9-C906D0F57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63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2119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51560" y="2119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F07A2-D305-4506-AE5F-17FC6CBDC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63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D66C3-FA54-4ECE-8429-11DCB1A4E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36324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8CE6D-4704-495D-9C30-17D2271E9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63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2119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1560" y="2119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71600" y="3035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49B40-578E-4FD9-A86B-E4C8A16E3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63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2119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0322-EC1A-444C-A971-28C1B26F5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63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2119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1560" y="2119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51560" y="3035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A5411-B59D-49EF-9A26-224647A5A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63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600" y="2119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1560" y="2119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71600" y="3035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2EF38-E24F-470D-BB81-4F4D63C07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63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2119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71600" y="3035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16727-E805-476E-973B-F1CD33569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63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2119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2119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71600" y="3035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51560" y="3035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F03F2-F29A-4483-9569-453F4DA58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63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2119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35560" y="2119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699880" y="2119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71600" y="3035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535560" y="3035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699880" y="3035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0AC6C-49FA-438D-A96C-FEB62DCCB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133B3A-8D1E-455D-81B9-A053BCB27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63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2119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FE6815-3311-4AAE-AA22-94C059A95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63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2119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D32AD0-FF07-4B11-BE82-1B5987F2A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63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71600" y="2119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51560" y="2119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9962DF-3A1A-417B-B135-9CC39FEB7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63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1D1CC4-4BF7-4EBF-AE15-A55FCFFF3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63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2119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CBD0-64DC-43A9-819C-030379DE9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36324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B982BA-DBAB-4AEC-BB7B-A6D439BB9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63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2119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51560" y="2119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71600" y="3035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0DF55C-7B48-41BD-9BA5-2F60D5519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63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2119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51560" y="2119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51560" y="3035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3D8E0D-6D17-45F1-A36D-6298CB8E8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63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1600" y="2119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51560" y="2119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371600" y="3035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473150-B147-474B-85F8-2ABEE4C10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63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2119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371600" y="3035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6DE56C-20C1-41EC-8D90-59FC23DEE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63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71600" y="2119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51560" y="2119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71600" y="3035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51560" y="3035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8D36FF-1B0B-4B7D-B796-94700CD02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63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71600" y="2119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535560" y="2119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699880" y="2119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371600" y="3035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535560" y="3035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699880" y="3035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5CB016-95FA-43C4-A576-CDE15AA72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40ED70-348D-43AE-8CF1-CEAFC8503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63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2119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0901FA-76A2-459E-B998-1DBF82828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363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71600" y="2119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E4856A-7EBD-4115-B48E-DBEB8A6DF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63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2119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2119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C55B-4E25-4B14-AABF-DC14F6C5C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63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371600" y="2119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51560" y="2119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058185-0C6C-419B-AD11-F7688C513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363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EAC972-91CE-4A83-8C3B-D3DDC5CD1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85800" y="36324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B74147-ED15-486B-B7FE-994C3BDFB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63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371600" y="2119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51560" y="2119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371600" y="3035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67A621-A659-4A57-A29F-A9A1A954D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63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371600" y="2119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51560" y="2119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51560" y="3035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F854EB-32FC-4CE9-A065-979A3F86D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63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371600" y="2119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51560" y="2119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371600" y="3035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3AEE86-AED2-4DFF-9C94-715D40198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363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371600" y="2119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371600" y="3035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7C48F4-7D7D-4C40-AF66-B81D42191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363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371600" y="2119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51560" y="2119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371600" y="3035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51560" y="3035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77E666-60A7-49C0-B053-94970A79D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363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371600" y="2119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535560" y="2119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699880" y="2119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371600" y="3035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535560" y="3035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699880" y="3035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36ECE3-4D6B-4731-BA39-3D6008524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F0AA35-F2CD-4AE1-8BE8-400BD1436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63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D319-72C8-47A4-AE6B-95A336365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363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371600" y="2119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EE652C-0E92-4AB5-96C1-E04FB992B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363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371600" y="2119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5B3F9A-1C0A-4E71-977F-3A8D48834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363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371600" y="2119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51560" y="2119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2BDAA5-41B0-482F-A131-82835B93E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363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E68BF4-AB21-4058-BCE6-FDE34E20B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685800" y="36324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9EF32E-A6CD-44F3-BB5D-EC8E36A6B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363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71600" y="2119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51560" y="2119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1371600" y="3035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4EBE74-6091-41C8-9C97-C3052E3DB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363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371600" y="2119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51560" y="2119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51560" y="3035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6CE0FF-ECC1-4C78-8D16-741DE9C75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363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371600" y="2119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51560" y="2119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1371600" y="3035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1123D3-82D9-4A69-BFB8-AA0D4D0FE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363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371600" y="2119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1371600" y="3035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588318-B2D2-458F-9B14-2234CE286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363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600" y="2119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1560" y="2119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371600" y="3035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51560" y="3035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3772F0-2EA4-457B-AEAB-FC8E2825E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6324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7F07-521D-415F-A38F-96341D97E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363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371600" y="2119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535560" y="2119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699880" y="2119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1371600" y="3035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535560" y="3035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5699880" y="3035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5D6CA9-7AC6-4647-940D-0160FBDC6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A1984A-D4F2-4892-BD4B-D73AA1A22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363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2119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3DFB29-1E00-4F7B-BBAA-90A07339A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363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371600" y="2119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C5F125-791D-4727-BC7D-4332BE38C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363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371600" y="2119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51560" y="2119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6F39E2-60FB-4534-BD89-0BDF8B7E1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363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1538AE-D495-4407-A43C-4B55397F2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685800" y="36324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CD389F-A221-40FF-9C3D-46F025B38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363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371600" y="2119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51560" y="2119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1371600" y="3035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7FB15E-4AE9-442B-B8BE-DE089AB2E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363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371600" y="2119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51560" y="2119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51560" y="3035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60CE7C-FE02-4C27-9558-53049D9A1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363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371600" y="2119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51560" y="2119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1371600" y="3035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7F0A61-825F-4145-AC1F-68796D535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63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2119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2119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3035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712E-E148-4821-83EC-D550D5BA1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363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371600" y="2119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1371600" y="3035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6A822A-9CD4-4BB6-B2C8-1FE3C7381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363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371600" y="2119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51560" y="2119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1371600" y="3035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51560" y="3035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A9BC53-C194-41F9-9820-652DCACF3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363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371600" y="2119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535560" y="2119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699880" y="2119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1371600" y="3035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535560" y="3035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5699880" y="3035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3BC5DD-07E4-48E4-BD3A-CAAE4D662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9EE605-284A-4C67-9186-F4D202A9A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363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1371600" y="2119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F90C6B-2016-453E-BF06-5F03CA933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363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371600" y="2119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D35E0F-382B-4909-A275-818CEB73A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363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371600" y="2119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51560" y="2119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6A8C4F-8411-42D6-AABA-2DF995CE6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363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1A8D7C-983B-497D-B7DC-AFF4B544B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685800" y="36324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460B92-70B1-4B0E-A0E0-7BFE70B54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363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371600" y="2119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51560" y="2119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1371600" y="3035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A08D96-B5AC-4F68-89DA-8E8541E85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63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2119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2119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3035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7AED-089C-453A-A4FF-A304FA5E2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363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371600" y="2119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51560" y="2119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51560" y="3035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231811-A91C-4CB9-9003-947EBE785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363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371600" y="2119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51560" y="2119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1371600" y="3035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05BE06-86F2-4A5C-8B30-3F6464CFC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363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371600" y="2119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1371600" y="3035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74CEAC-302A-4C9E-A18D-F5961F56A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363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371600" y="2119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51560" y="2119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1371600" y="3035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51560" y="3035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03D410-1FDC-473C-9C42-623D2EEDC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363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371600" y="2119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535560" y="2119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699880" y="2119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1371600" y="3035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535560" y="3035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5699880" y="3035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D5AC73-C851-4B33-9641-AB87AC4DA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0E866F-6EA0-4C30-B966-6898A8B3A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363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1371600" y="2119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4B3F2B-20DD-4383-8DDB-16BE2A6AA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363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371600" y="2119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03AA90-15AD-4EC9-B4EF-FE8E159F2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363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371600" y="2119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51560" y="2119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25DB91-97A5-4FE7-9E5C-518E8A989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363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90B672-93B8-467F-A56F-081DC6CCA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63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2119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2119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3035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7AA8-AE36-4C5A-AC62-DF9F32DAA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685800" y="36324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C686F3-734A-4FB9-A69C-3228442A6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363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371600" y="2119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51560" y="2119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371600" y="3035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8FD3F5-108D-4B39-959D-DF5610256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363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371600" y="2119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51560" y="2119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651560" y="3035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64046D-791A-4DBB-B2B7-427407023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363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371600" y="2119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51560" y="2119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1371600" y="3035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110FDA-E28A-400C-8A28-6DB1DBE18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363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371600" y="2119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1371600" y="3035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8474A0-B64A-4306-A77A-C90242671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63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371600" y="2119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51560" y="2119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1371600" y="3035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651560" y="3035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4352A6-BBC1-4ACC-A6AE-8BCFC39E0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363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371600" y="2119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535560" y="2119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699880" y="2119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1371600" y="3035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535560" y="3035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5699880" y="3035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F32CCF-1863-476E-A43F-CB2C43BE4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14440" y="274320"/>
            <a:ext cx="6772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314440" y="1600200"/>
            <a:ext cx="677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EFB84-DCFB-4C82-92D3-49D934893A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63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8F3BF-B08F-41B8-994B-2DF2AC0F62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314440" y="274320"/>
            <a:ext cx="6772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2314440" y="1600200"/>
            <a:ext cx="677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08D43-9339-4C1F-9AFA-028CE692A2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63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F2027-E49A-492F-92CB-E0BC8A81CE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765160" y="274320"/>
            <a:ext cx="6321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2765160" y="1600200"/>
            <a:ext cx="6321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1A053-823D-4FE6-A173-E8B7CC2CE2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363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96BEF-A500-493A-829B-B5E7B1AEF6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314440" y="274320"/>
            <a:ext cx="6772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2314440" y="1600200"/>
            <a:ext cx="677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7EEF5-C7EE-4394-8E6C-F7A25B6192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363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1CE44-005D-459F-93E8-73FB86BAAA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6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indezine.com/powerpoint/templates/categories/holidaysevents/fathersday.html" TargetMode="External"/><Relationship Id="rId3" Type="http://schemas.openxmlformats.org/officeDocument/2006/relationships/slideLayout" Target="../slideLayouts/slideLayout5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indezine.com/" TargetMode="External"/><Relationship Id="rId3" Type="http://schemas.openxmlformats.org/officeDocument/2006/relationships/slideLayout" Target="../slideLayouts/slideLayout3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1174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</a:rPr>
              <a:t>Father's Day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765160" y="274320"/>
            <a:ext cx="6321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is Father's Day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2765160" y="1600200"/>
            <a:ext cx="6321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ther's Day is a secular holiday, inaugurated in the early 20th century to complement Mother's Da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celebrates fatherhood and parenting by males, and honors and commemorate fathers and forefathe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765160" y="274320"/>
            <a:ext cx="6321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ere is Father's Day celebrate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765160" y="1600200"/>
            <a:ext cx="6321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elebrated on a variety of dates worldwid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itially, Father's Day was celebrated mainly in the western countr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the US, Father's Day is marketed as a day when you buy gifts for your father and grandfa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Asia Pacific countries, Father's Day is being emulated commercially in the same way as in the 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765160" y="274320"/>
            <a:ext cx="6321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volution  of Father's Da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2765160" y="1600200"/>
            <a:ext cx="632124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the United States, the first modern Father's Day celebration was held on July 5, 1908, in Fairmont, West Virgini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recent years, retailers have adapted to the holiday by promoting male-oriented gifts such as electronics and tool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hools and other children's programs commonly have activities to make Father's Day gif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765160" y="274320"/>
            <a:ext cx="6321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en is Father's Day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2765160" y="1600200"/>
            <a:ext cx="6321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rmally celebrated on third Sunday in June in the US and most countries including China and Indi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cember 5th in Thailand, and February  in Russi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2765160" y="274320"/>
            <a:ext cx="6530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can you do for your Dad on Father's Day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2765160" y="1600200"/>
            <a:ext cx="6321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ive him a card, or send him an email if he lives far awa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y him some gifts -- maybe electronics, tools, or something he will apprecia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ll him how much he means to you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ate a quick PowerPoint greeting card with free Father’s Day templates at </a:t>
            </a:r>
            <a:r>
              <a:rPr b="0" lang="en-US" sz="2800" spc="-1" strike="noStrike" u="sng">
                <a:solidFill>
                  <a:srgbClr val="d6e9ff"/>
                </a:solidFill>
                <a:uFillTx/>
                <a:latin typeface="Arial"/>
                <a:hlinkClick r:id="rId2"/>
              </a:rPr>
              <a:t>Indezine.com…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363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Thank You!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1371600" y="2119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pyright Indezine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d6e9ff"/>
                </a:solidFill>
                <a:uFillTx/>
                <a:latin typeface="Arial"/>
                <a:hlinkClick r:id="rId2"/>
              </a:rPr>
              <a:t>http://www.indezine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4T06:51:26Z</dcterms:created>
  <dc:creator>Geetesh Bajaj</dc:creator>
  <dc:description/>
  <dc:language>en-US</dc:language>
  <cp:lastModifiedBy>Geetesh Bajaj</cp:lastModifiedBy>
  <dcterms:modified xsi:type="dcterms:W3CDTF">2007-06-04T07:15:14Z</dcterms:modified>
  <cp:revision>6</cp:revision>
  <dc:subject/>
  <dc:title>Father's Day</dc:title>
</cp:coreProperties>
</file>